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B9F-C061-455C-9452-F36B8F4D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B7D-182A-4A6C-842E-F1B05EA5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77C-4A79-4D9B-B955-040320E7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9E2-2DB7-4B31-8C52-E23AB199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0CC-5ACB-4CA5-9775-610CD27B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B81-CE37-4B42-9744-3F13C1C4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29C0-58AC-4E77-8CE1-B692B3BF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D1DC-49B2-4BE5-A85E-8AF25345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9C44-6D24-411F-99BC-E75008DD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053-372B-486F-8FD4-498DE5ED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AA2D-AECE-4CE9-9712-BD9B006B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7836-2B6E-4438-997C-EC7FDFA5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4911-5BE0-4018-AE2A-050DA384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75C2-07E2-4612-9BFA-B9C12B28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9F53-3298-4EA2-8198-4713C4B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CE3B-A12A-449F-BD42-5BDC52F0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FE0C-6C9F-47FA-ACEA-ABAEB50D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4C67-FDDC-43CB-94C9-307A7B96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7069-9FB1-4CCF-BF26-F8DB454A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6338-0F13-47D0-AC8B-9CD2C502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0B6-0EF4-4ADA-9B13-24218DEB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073C-3B90-485F-9E23-D21BB35F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6DBE-F53F-4C86-8146-164728C0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23A38-B67D-4D99-885C-C346D2D5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3C16-7786-4AA3-A754-39E43C55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27E9-AF3C-4831-ACAA-31321CE5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9260-7DEB-4193-89F0-BECF786F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3E72-4089-4BEE-8DE1-9F8141B8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4E20-D79F-4198-8C33-56931039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296F-48C4-4728-8996-BD051A02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E1711-D442-4796-A051-8D80449B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14C-3B34-4FE6-89B6-E71DD2CB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6770-7EF6-4A5D-9AF5-9F86481B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3E977-6AE7-4B0D-837D-E0F757AE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6AD0-C217-4FF3-98B7-E83AB9D4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F87C5-9BBC-4587-BDFE-E3F783B4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3CEA-81FB-4E3B-81C5-E66226D4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B8DC-BC44-44FE-8A9A-6636B5FC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17440" y="76320"/>
            <a:ext cx="1015704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A2B5E-9E5A-4D16-B95E-CC51A09A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3DAC6-BA76-42B2-BB95-DCE2E9C0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5BE6-7137-4469-88FF-33DB3AA2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4AA1-6AFF-4908-81E5-7A5FDA51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280-1054-40CF-B999-BA96D3CB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D1B99-CCB3-4981-B5F9-063AF4DE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883EF-771D-45B0-A395-9FB45B6E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514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5880" y="170172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1744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5514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85880" y="4037040"/>
            <a:ext cx="32702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02DF3-A94A-46B1-8416-C1034B28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21960" y="403704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835-D40F-4944-95E6-51A4F109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21960" y="1701720"/>
            <a:ext cx="495648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7440" y="4037040"/>
            <a:ext cx="101570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8E0-A7E1-46DD-8049-E16C0C6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304920" y="0"/>
            <a:ext cx="115790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FB3F552E-4C63-49A5-A31C-DF475DAA9174}" type="datetime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E8B619D-CF02-4C3F-B492-8898F98D3652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36816CE-56E8-4757-823F-4FE841A25627}" type="datetime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11630E7-F656-4E7B-9381-9954621B7985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7"/>
          <p:cNvSpPr/>
          <p:nvPr/>
        </p:nvSpPr>
        <p:spPr>
          <a:xfrm>
            <a:off x="3960720" y="0"/>
            <a:ext cx="7923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997EC26-A64A-4A4E-AB6D-04B1E7F47592}" type="datetime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F5B6F93-4815-4C9A-8EB6-810E4B88ECA4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7"/>
          <p:cNvSpPr/>
          <p:nvPr/>
        </p:nvSpPr>
        <p:spPr>
          <a:xfrm>
            <a:off x="2082960" y="0"/>
            <a:ext cx="8022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74c81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17440" y="1701720"/>
            <a:ext cx="101570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374c81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374c81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1117440" y="6400440"/>
            <a:ext cx="27417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138CC14-7B88-4D91-AD04-1D1A44A8D2B4}" type="datetime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908520" y="6400440"/>
            <a:ext cx="62150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10167840" y="6400440"/>
            <a:ext cx="110664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9ED0DA5E-4F7F-4720-A13A-B2CD786FFE5D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3"/>
          <p:cNvSpPr/>
          <p:nvPr/>
        </p:nvSpPr>
        <p:spPr>
          <a:xfrm>
            <a:off x="3621240" y="2063880"/>
            <a:ext cx="700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«Практические технологии и  методики профориентационной работы с обучающимися с особыми образовательными потребностями»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4078440" y="428760"/>
            <a:ext cx="609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 учреждение высшего образования «Южно-Уральский государственный гуманитарно-педагогический университет»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9166320" y="4549680"/>
            <a:ext cx="3014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Пудеева Е.А.,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аспирант кафедры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теоретической и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прикладной психологии,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Ушакова М.А.,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аспирант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кафедры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теоретической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и прикладной психологии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693720" y="189000"/>
          <a:ext cx="10872720" cy="6335640"/>
        </p:xfrm>
        <a:graphic>
          <a:graphicData uri="http://schemas.openxmlformats.org/drawingml/2006/table">
            <a:tbl>
              <a:tblPr/>
              <a:tblGrid>
                <a:gridCol w="2174760"/>
                <a:gridCol w="2173320"/>
                <a:gridCol w="2175120"/>
                <a:gridCol w="2174760"/>
                <a:gridCol w="2174760"/>
              </a:tblGrid>
              <a:tr h="528480">
                <a:tc gridSpan="5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СИХОАНАЛИЗ</a:t>
                      </a: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raditional Arabic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ФИЛЬМА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Эмоции/чувства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Герой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южет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роекция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0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акие сцены я пересмотрел (а) бы второй раз?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аков стиль общения героев фильма? Как они решают свои проблемы?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О чем этот фильм? 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акова основная проблема/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онфликт? 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Встретилось ли в фильме для меня что-то новое, ранее неизвестное? Совершил ли я какое-то открытие для себя?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3286080" y="907920"/>
            <a:ext cx="597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и </a:t>
            </a:r>
            <a:endParaRPr b="0" lang="en-US" sz="8000" spc="-1" strike="noStrike">
              <a:solidFill>
                <a:srgbClr val="374c81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endParaRPr b="0" lang="en-US" sz="8000" spc="-1" strike="noStrike">
              <a:solidFill>
                <a:srgbClr val="374c81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отерапии</a:t>
            </a:r>
            <a:endParaRPr b="0" lang="en-US" sz="8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693720" y="836640"/>
          <a:ext cx="10872720" cy="5111640"/>
        </p:xfrm>
        <a:graphic>
          <a:graphicData uri="http://schemas.openxmlformats.org/drawingml/2006/table">
            <a:tbl>
              <a:tblPr/>
              <a:tblGrid>
                <a:gridCol w="1727280"/>
                <a:gridCol w="1886040"/>
                <a:gridCol w="1814400"/>
                <a:gridCol w="1816200"/>
                <a:gridCol w="1814400"/>
                <a:gridCol w="1814400"/>
              </a:tblGrid>
              <a:tr h="781200">
                <a:tc gridSpan="6">
                  <a:txBody>
                    <a:bodyPr lIns="95400" rIns="9540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ПОМОГИ ГЕРОЮ РЕШИТЬ ПРОБЛЕМУ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2520"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Инструкция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5400" rIns="95400" tIns="47520" bIns="475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Участникам группы предлагается определить несколько проблем, стоящих перед главными героями фильма, а затем предложить способы их решения «Как бы я действовал, будь я на месте героя?»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1320"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Определение проблемы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Формулировка цели и задач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Способствующие факторы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Мешающие факторы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Пошаговый план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Альтернативные способы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6600"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054080" y="765000"/>
          <a:ext cx="10009080" cy="5399280"/>
        </p:xfrm>
        <a:graphic>
          <a:graphicData uri="http://schemas.openxmlformats.org/drawingml/2006/table">
            <a:tbl>
              <a:tblPr/>
              <a:tblGrid>
                <a:gridCol w="2674800"/>
                <a:gridCol w="1600200"/>
                <a:gridCol w="1538280"/>
                <a:gridCol w="1521000"/>
                <a:gridCol w="2674800"/>
              </a:tblGrid>
              <a:tr h="682920">
                <a:tc gridSpan="5">
                  <a:txBody>
                    <a:bodyPr lIns="95400" rIns="9540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ВОПРОС, ВОЛНУЮЩИЙ ГЕРОЯ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0"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Инструкция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5400" rIns="95400" tIns="47520" bIns="475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Участникам предлагается поразмышлять о том, какие вопросы волнуют каждого героя, и о том, что бы они сами ответили на эти вопросы. Вопросы и ответы можно занести в таблицу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участник 1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участник 2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участник 3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Ответы: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480">
                <a:tc rowSpan="3"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270080" y="692280"/>
          <a:ext cx="10153440" cy="5761080"/>
        </p:xfrm>
        <a:graphic>
          <a:graphicData uri="http://schemas.openxmlformats.org/drawingml/2006/table">
            <a:tbl>
              <a:tblPr/>
              <a:tblGrid>
                <a:gridCol w="2431800"/>
                <a:gridCol w="1455840"/>
                <a:gridCol w="1400400"/>
                <a:gridCol w="2431800"/>
                <a:gridCol w="2433600"/>
              </a:tblGrid>
              <a:tr h="728640">
                <a:tc gridSpan="5">
                  <a:txBody>
                    <a:bodyPr lIns="95400" rIns="9540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КРИТЕРИИ ВЫБОРА ПРОФЕССИИ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7880"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Инструкция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5400" rIns="95400" tIns="47520" bIns="475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Участникам предлагается поразмышлять о том, какими критериями руководствовался герой при выборе профессии? Написать свои критерии выбора профессии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7360">
                <a:tc rowSpan="4"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участник 1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участник 2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участник 3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Ответы: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400" rIns="9540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ctr" marL="95400" marR="9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2278080" y="1197000"/>
            <a:ext cx="73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критического мышления</a:t>
            </a:r>
            <a:endParaRPr b="0" lang="en-US" sz="80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Users\User\Desktop\К ПОНЕДЕЛЬНИКУ\ЖИВОПИСЬ\ТРИЗ\ИДЕАЛ.jpg"/>
          <p:cNvPicPr/>
          <p:nvPr/>
        </p:nvPicPr>
        <p:blipFill>
          <a:blip r:embed="rId1"/>
          <a:srcRect l="0" t="14168" r="4984" b="10835"/>
          <a:stretch/>
        </p:blipFill>
        <p:spPr>
          <a:xfrm>
            <a:off x="981000" y="404640"/>
            <a:ext cx="9974160" cy="5904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ttp://images.myshared.ru/17/1024873/slide_13.jpg"/>
          <p:cNvPicPr/>
          <p:nvPr/>
        </p:nvPicPr>
        <p:blipFill>
          <a:blip r:embed="rId1"/>
          <a:srcRect l="3189" t="19339" r="4809" b="18998"/>
          <a:stretch/>
        </p:blipFill>
        <p:spPr>
          <a:xfrm>
            <a:off x="1125360" y="549360"/>
            <a:ext cx="10026720" cy="568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://images.myshared.ru/6/670579/slide_11.jpg"/>
          <p:cNvPicPr/>
          <p:nvPr/>
        </p:nvPicPr>
        <p:blipFill>
          <a:blip r:embed="rId1"/>
          <a:srcRect l="0" t="15034" r="0" b="8856"/>
          <a:stretch/>
        </p:blipFill>
        <p:spPr>
          <a:xfrm>
            <a:off x="1701720" y="549360"/>
            <a:ext cx="9144000" cy="5904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C:\Users\User\Desktop\К ПОНЕДЕЛЬНИКУ\ЖИВОПИСЬ\ТРИЗ\ДЕРЕВО ПРЕДСКАЗАНИЙ_ПРИМЕР.jpg"/>
          <p:cNvPicPr/>
          <p:nvPr/>
        </p:nvPicPr>
        <p:blipFill>
          <a:blip r:embed="rId1"/>
          <a:srcRect l="11685" t="0" r="7484" b="0"/>
          <a:stretch/>
        </p:blipFill>
        <p:spPr>
          <a:xfrm>
            <a:off x="2590920" y="200160"/>
            <a:ext cx="7032600" cy="6524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333360" y="612720"/>
            <a:ext cx="115221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ДЛЯ КАЧЕСТВЕННОГО ПСИХОАНАЛИЗА ФИЛЬ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ый просмотр фильма;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стории создания фильма (идея сценария,     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я, экранизируемое произведение);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ый разбор представленных для анализа вопросов;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рецензий;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с психологом, группой.</a:t>
            </a:r>
            <a:endParaRPr b="0" lang="en-US" sz="32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3621240" y="2063880"/>
            <a:ext cx="700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«Практические технологии и  методики профориентационной работы с обучающимися,  с особыми образовательными потребностями»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4078440" y="428760"/>
            <a:ext cx="609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 учреждение высшего образования «Южно-Уральский государственный гуманитарно-педагогический университет» 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9166320" y="4549680"/>
            <a:ext cx="3014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Пудеева Е.А.,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аспирант кафедры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теоретической и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прикладной психологии,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Ушакова М.А.,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аспирант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кафедры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теоретической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600" spc="-1" strike="noStrike">
                <a:solidFill>
                  <a:srgbClr val="1b2640"/>
                </a:solidFill>
                <a:latin typeface="Times New Roman"/>
                <a:ea typeface="Times New Roman"/>
              </a:rPr>
              <a:t>и прикладной психологии</a:t>
            </a:r>
            <a:endParaRPr b="0" lang="en-US" sz="1600" spc="-1" strike="noStrike">
              <a:solidFill>
                <a:srgbClr val="374c81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333360" y="549360"/>
          <a:ext cx="11449080" cy="6048360"/>
        </p:xfrm>
        <a:graphic>
          <a:graphicData uri="http://schemas.openxmlformats.org/drawingml/2006/table">
            <a:tbl>
              <a:tblPr/>
              <a:tblGrid>
                <a:gridCol w="1351080"/>
                <a:gridCol w="1127160"/>
                <a:gridCol w="1753920"/>
                <a:gridCol w="1233720"/>
                <a:gridCol w="1234800"/>
                <a:gridCol w="1549440"/>
                <a:gridCol w="1339920"/>
                <a:gridCol w="1859040"/>
              </a:tblGrid>
              <a:tr h="461880">
                <a:tc gridSpan="8">
                  <a:txBody>
                    <a:bodyPr lIns="68400" rIns="68400" tIns="0" bIns="0" anchor="t">
                      <a:noAutofit/>
                    </a:bodyPr>
                    <a:p>
                      <a:pPr marL="430200"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ОПОРНЫЕ ПУНКТЫ ДЛЯ ПСИХОАНАЛИЗА ФИЛЬМА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6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Основная психологическая тема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руг психологических проблем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Эмоциональная парадигма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Черты характера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истемы отношений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Нравственные категории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Цитаты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Выдержки из рецензий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рофориентация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амооценка/самопознание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овокупность философских представлений, которые определяют то, как 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человек думает и действует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основа личности (честность, смелость и пр.)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Общение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Добро и зло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«Я подумаю об этом завтра»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8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одержательный аспект и ответ на вопрос: «Что автор фильма хотел сказать?»</a:t>
                      </a:r>
                      <a:endParaRPr b="0" lang="en-US" sz="18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765000" y="404640"/>
          <a:ext cx="10514160" cy="6264360"/>
        </p:xfrm>
        <a:graphic>
          <a:graphicData uri="http://schemas.openxmlformats.org/drawingml/2006/table">
            <a:tbl>
              <a:tblPr/>
              <a:tblGrid>
                <a:gridCol w="1532160"/>
                <a:gridCol w="1468440"/>
                <a:gridCol w="1611360"/>
                <a:gridCol w="1182600"/>
                <a:gridCol w="1058760"/>
                <a:gridCol w="1309680"/>
                <a:gridCol w="766800"/>
                <a:gridCol w="1584360"/>
              </a:tblGrid>
              <a:tr h="392400">
                <a:tc gridSpan="8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1272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ОПОРНЫЕ ПУНКТЫ ДЛЯ ПСИХОАНАЛИЗА ФИЛЬМА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52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Основная психологическая тема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руг психологических проблем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Эмоциональная парадигма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Черты характера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истемы отношений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Нравственные категории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Цитаты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Выдержки из рецензий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66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1272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рофориентация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Что я знаю о мире профессий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овокупность философских представлений, которые определяют то, как человек думает и действует</a:t>
                      </a:r>
                      <a:endParaRPr b="0" lang="en-US" sz="1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о отношению к другим (дружелюбие)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онфликт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Честь и совесть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«Мы с тобой одной крови — ты и я!»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Изобразительный аспект и ответ: «Как автор фильма это сделал?» (выразительные средства, работа актеров)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54080" y="476280"/>
          <a:ext cx="10369440" cy="6121440"/>
        </p:xfrm>
        <a:graphic>
          <a:graphicData uri="http://schemas.openxmlformats.org/drawingml/2006/table">
            <a:tbl>
              <a:tblPr/>
              <a:tblGrid>
                <a:gridCol w="1357200"/>
                <a:gridCol w="1266840"/>
                <a:gridCol w="1567080"/>
                <a:gridCol w="1336680"/>
                <a:gridCol w="1614240"/>
                <a:gridCol w="1168560"/>
                <a:gridCol w="1020600"/>
                <a:gridCol w="1038240"/>
              </a:tblGrid>
              <a:tr h="382680">
                <a:tc gridSpan="8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1272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ОПОРНЫЕ ПУНКТЫ ДЛЯ ПСИХОАНАЛИЗА ФИЛЬМА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26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Основная психологическая тема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руг психологических проблем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Эмоциональная парадигма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Черты характера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истемы отношений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Нравственные категории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Цитаты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Выдержки из рецензий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1272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рофориентация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пособности и профессиональная пригодность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овокупность философских представлений, которые определяют то, как человек думает и действует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о отношению к себе/деятельности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Дружба/партнерство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Долг и справед-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ливость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«Утром деньги — вечером стулья»</a:t>
                      </a:r>
                      <a:endParaRPr b="0" lang="en-US" sz="1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Личное мнение автора рецензии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2422440" y="333360"/>
            <a:ext cx="77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Е ПУНКТЫ ДЛЯ ПСИХОАНАЛИЗА ФИЛЬМА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1" name="Диалог Гоши и Александры из фильма Москва слезам не верит.mp4" descr=""/>
          <p:cNvPicPr/>
          <p:nvPr/>
        </p:nvPicPr>
        <p:blipFill>
          <a:blip r:embed="rId1"/>
          <a:stretch/>
        </p:blipFill>
        <p:spPr>
          <a:xfrm>
            <a:off x="2997360" y="1287360"/>
            <a:ext cx="6648120" cy="505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2422440" y="333360"/>
            <a:ext cx="77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Е ПУНКТЫ ДЛЯ ПСИХОАНАЛИЗА ФИЛЬМА</a:t>
            </a:r>
            <a:endParaRPr b="0" lang="en-US" sz="2800" spc="-1" strike="noStrike">
              <a:solidFill>
                <a:srgbClr val="374c81"/>
              </a:solidFill>
              <a:latin typeface="Century Gothic"/>
            </a:endParaRPr>
          </a:p>
        </p:txBody>
      </p:sp>
      <p:pic>
        <p:nvPicPr>
          <p:cNvPr id="253" name="Без названия.mp4" descr=""/>
          <p:cNvPicPr/>
          <p:nvPr/>
        </p:nvPicPr>
        <p:blipFill>
          <a:blip r:embed="rId1"/>
          <a:stretch/>
        </p:blipFill>
        <p:spPr>
          <a:xfrm>
            <a:off x="1557360" y="1401840"/>
            <a:ext cx="9237600" cy="49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765000" y="333360"/>
          <a:ext cx="11017440" cy="5846760"/>
        </p:xfrm>
        <a:graphic>
          <a:graphicData uri="http://schemas.openxmlformats.org/drawingml/2006/table">
            <a:tbl>
              <a:tblPr/>
              <a:tblGrid>
                <a:gridCol w="487440"/>
                <a:gridCol w="3117960"/>
                <a:gridCol w="2925720"/>
                <a:gridCol w="2535120"/>
                <a:gridCol w="1951200"/>
              </a:tblGrid>
              <a:tr h="365040">
                <a:tc gridSpan="5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СИХОАНАЛИЗ</a:t>
                      </a:r>
                      <a:r>
                        <a:rPr b="1" lang="ru-RU" sz="1600" spc="-1" strike="noStrike">
                          <a:solidFill>
                            <a:srgbClr val="374c81"/>
                          </a:solidFill>
                          <a:latin typeface="Traditional Arabic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ФИЛЬМА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Эмоции/чувства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Герой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южет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роекция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984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онравился ли фильм или нет? Почему? Что конкретно понравилось, что не понравилось, на что обратил (а) внимание?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акие эмоции вызвал фильм? Что меня рассмешило, обрадовало, расстроило, вызвало раздражение, рассердило, обидело, испугало, оттолкнуло и т.д.?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аков психологический портрет каждого героя: личностные особенности, нравственные принципы, черты характера, манеры поведения, история жизни и т.д.?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очему фильму дано именно такое название? Как название раскрывает смысл фильма?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ак этот фильм перекликается с моей жизнью? Наблюдал (а) ли я подобные ситуации и отношения в моей жизни?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6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акие уроки я извлек (ла) для себя и какие выводы сделал (а)?</a:t>
                      </a:r>
                      <a:endParaRPr b="0" lang="en-US" sz="16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477720" y="404640"/>
          <a:ext cx="11017440" cy="6264360"/>
        </p:xfrm>
        <a:graphic>
          <a:graphicData uri="http://schemas.openxmlformats.org/drawingml/2006/table">
            <a:tbl>
              <a:tblPr/>
              <a:tblGrid>
                <a:gridCol w="503280"/>
                <a:gridCol w="2851200"/>
                <a:gridCol w="2536920"/>
                <a:gridCol w="2639880"/>
                <a:gridCol w="2486160"/>
              </a:tblGrid>
              <a:tr h="835200">
                <a:tc gridSpan="5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СИХОАНАЛИЗ</a:t>
                      </a:r>
                      <a:r>
                        <a:rPr b="1" lang="ru-RU" sz="1700" spc="-1" strike="noStrike">
                          <a:solidFill>
                            <a:srgbClr val="374c81"/>
                          </a:solidFill>
                          <a:latin typeface="Traditional Arabic"/>
                          <a:ea typeface="Calibri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ФИЛЬМА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4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Эмоции/чувства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Герой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Сюжет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Проекция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7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Что я считаю правильным или неправильным? Кто, по-моему, прав, кто не прав, кто виноват и почему?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аковы отношения между героями, их история и особенности?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Каковы сюжет фильма, последовательность событий, действующие лица?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ru-RU" sz="1700" spc="-1" strike="noStrike">
                          <a:solidFill>
                            <a:srgbClr val="374c81"/>
                          </a:solidFill>
                          <a:latin typeface="Times New Roman"/>
                          <a:ea typeface="Calibri"/>
                        </a:rPr>
                        <a:t>Что бы я изменил (а) в ситуации и как бы я поступил (а) на месте героя/героев? Что нужно для этого сделать? Что бы я взял (а) для себя как образец для подражания?</a:t>
                      </a:r>
                      <a:endParaRPr b="0" lang="en-US" sz="1700" spc="-1" strike="noStrike">
                        <a:solidFill>
                          <a:srgbClr val="374c81"/>
                        </a:solidFill>
                        <a:latin typeface="Century Gothic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0T09:40:14Z</dcterms:created>
  <dc:creator/>
  <dc:description/>
  <dc:language>en-US</dc:language>
  <cp:lastModifiedBy/>
  <dcterms:modified xsi:type="dcterms:W3CDTF">2020-01-21T15:50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36;#REDMOND\kristaa</vt:lpwstr>
  </property>
  <property fmtid="{D5CDD505-2E9C-101B-9397-08002B2CF9AE}" pid="3" name="APDescription">
    <vt:lpwstr>The bookstacks present on most slides  make this a good choice for students, teachers, reading enthusiasts, and others in education. This presentation template contains multiple slide layouts in widescreen format (16x9) and includes a sample table and cha</vt:lpwstr>
  </property>
  <property fmtid="{D5CDD505-2E9C-101B-9397-08002B2CF9AE}" pid="4" name="APEditor">
    <vt:lpwstr/>
  </property>
  <property fmtid="{D5CDD505-2E9C-101B-9397-08002B2CF9AE}" pid="5" name="AcquiredFrom">
    <vt:lpwstr>Internal MS</vt:lpwstr>
  </property>
  <property fmtid="{D5CDD505-2E9C-101B-9397-08002B2CF9AE}" pid="6" name="ApprovalLog">
    <vt:lpwstr/>
  </property>
  <property fmtid="{D5CDD505-2E9C-101B-9397-08002B2CF9AE}" pid="7" name="ApprovalStatus">
    <vt:lpwstr>InProgress</vt:lpwstr>
  </property>
  <property fmtid="{D5CDD505-2E9C-101B-9397-08002B2CF9AE}" pid="8" name="ArtSampleDocs">
    <vt:lpwstr/>
  </property>
  <property fmtid="{D5CDD505-2E9C-101B-9397-08002B2CF9AE}" pid="9" name="AssetId">
    <vt:lpwstr>TP102787939</vt:lpwstr>
  </property>
  <property fmtid="{D5CDD505-2E9C-101B-9397-08002B2CF9AE}" pid="10" name="AssetType">
    <vt:lpwstr>TP</vt:lpwstr>
  </property>
  <property fmtid="{D5CDD505-2E9C-101B-9397-08002B2CF9AE}" pid="11" name="AverageRating">
    <vt:lpwstr/>
  </property>
  <property fmtid="{D5CDD505-2E9C-101B-9397-08002B2CF9AE}" pid="12" name="BlockPublish">
    <vt:lpwstr>0</vt:lpwstr>
  </property>
  <property fmtid="{D5CDD505-2E9C-101B-9397-08002B2CF9AE}" pid="13" name="BugNumber">
    <vt:lpwstr/>
  </property>
  <property fmtid="{D5CDD505-2E9C-101B-9397-08002B2CF9AE}" pid="14" name="BusinessGroup">
    <vt:lpwstr/>
  </property>
  <property fmtid="{D5CDD505-2E9C-101B-9397-08002B2CF9AE}" pid="15" name="CSXHash">
    <vt:lpwstr/>
  </property>
  <property fmtid="{D5CDD505-2E9C-101B-9397-08002B2CF9AE}" pid="16" name="CSXSubmissionDate">
    <vt:lpwstr/>
  </property>
  <property fmtid="{D5CDD505-2E9C-101B-9397-08002B2CF9AE}" pid="17" name="CSXSubmissionMarket">
    <vt:lpwstr/>
  </property>
  <property fmtid="{D5CDD505-2E9C-101B-9397-08002B2CF9AE}" pid="18" name="CSXUpdate">
    <vt:lpwstr>0</vt:lpwstr>
  </property>
  <property fmtid="{D5CDD505-2E9C-101B-9397-08002B2CF9AE}" pid="19" name="CampaignTags">
    <vt:lpwstr/>
  </property>
  <property fmtid="{D5CDD505-2E9C-101B-9397-08002B2CF9AE}" pid="20" name="CampaignTagsTaxHTField0">
    <vt:lpwstr/>
  </property>
  <property fmtid="{D5CDD505-2E9C-101B-9397-08002B2CF9AE}" pid="21" name="ClipArtFilename">
    <vt:lpwstr/>
  </property>
  <property fmtid="{D5CDD505-2E9C-101B-9397-08002B2CF9AE}" pid="22" name="ContentItem">
    <vt:lpwstr/>
  </property>
  <property fmtid="{D5CDD505-2E9C-101B-9397-08002B2CF9AE}" pid="23" name="ContentTypeId">
    <vt:lpwstr>0x0101006EDDDB5EE6D98C44930B742096920B300400F5B6D36B3EF94B4E9A635CDF2A18F5B8</vt:lpwstr>
  </property>
  <property fmtid="{D5CDD505-2E9C-101B-9397-08002B2CF9AE}" pid="24" name="CrawlForDependencies">
    <vt:lpwstr>0</vt:lpwstr>
  </property>
  <property fmtid="{D5CDD505-2E9C-101B-9397-08002B2CF9AE}" pid="25" name="DSATActionTaken">
    <vt:lpwstr/>
  </property>
  <property fmtid="{D5CDD505-2E9C-101B-9397-08002B2CF9AE}" pid="26" name="DirectSourceMarket">
    <vt:lpwstr/>
  </property>
  <property fmtid="{D5CDD505-2E9C-101B-9397-08002B2CF9AE}" pid="27" name="Downloads">
    <vt:lpwstr>0</vt:lpwstr>
  </property>
  <property fmtid="{D5CDD505-2E9C-101B-9397-08002B2CF9AE}" pid="28" name="EditorialStatus">
    <vt:lpwstr>Complete</vt:lpwstr>
  </property>
  <property fmtid="{D5CDD505-2E9C-101B-9397-08002B2CF9AE}" pid="29" name="EditorialTags">
    <vt:lpwstr/>
  </property>
  <property fmtid="{D5CDD505-2E9C-101B-9397-08002B2CF9AE}" pid="30" name="FeatureTags">
    <vt:lpwstr/>
  </property>
  <property fmtid="{D5CDD505-2E9C-101B-9397-08002B2CF9AE}" pid="31" name="FeatureTagsTaxHTField0">
    <vt:lpwstr/>
  </property>
  <property fmtid="{D5CDD505-2E9C-101B-9397-08002B2CF9AE}" pid="32" name="FriendlyTitle">
    <vt:lpwstr/>
  </property>
  <property fmtid="{D5CDD505-2E9C-101B-9397-08002B2CF9AE}" pid="33" name="HandoffToMSDN">
    <vt:lpwstr/>
  </property>
  <property fmtid="{D5CDD505-2E9C-101B-9397-08002B2CF9AE}" pid="34" name="InternalTags">
    <vt:lpwstr/>
  </property>
  <property fmtid="{D5CDD505-2E9C-101B-9397-08002B2CF9AE}" pid="35" name="InternalTagsTaxHTField0">
    <vt:lpwstr/>
  </property>
  <property fmtid="{D5CDD505-2E9C-101B-9397-08002B2CF9AE}" pid="36" name="IntlLangReview">
    <vt:lpwstr/>
  </property>
  <property fmtid="{D5CDD505-2E9C-101B-9397-08002B2CF9AE}" pid="37" name="IntlLangReviewDate">
    <vt:lpwstr/>
  </property>
  <property fmtid="{D5CDD505-2E9C-101B-9397-08002B2CF9AE}" pid="38" name="IntlLangReviewer">
    <vt:lpwstr/>
  </property>
  <property fmtid="{D5CDD505-2E9C-101B-9397-08002B2CF9AE}" pid="39" name="IntlLocPriority">
    <vt:lpwstr/>
  </property>
  <property fmtid="{D5CDD505-2E9C-101B-9397-08002B2CF9AE}" pid="40" name="IsDeleted">
    <vt:lpwstr>0</vt:lpwstr>
  </property>
  <property fmtid="{D5CDD505-2E9C-101B-9397-08002B2CF9AE}" pid="41" name="IsSearchable">
    <vt:lpwstr>1</vt:lpwstr>
  </property>
  <property fmtid="{D5CDD505-2E9C-101B-9397-08002B2CF9AE}" pid="42" name="LastHandOff">
    <vt:lpwstr/>
  </property>
  <property fmtid="{D5CDD505-2E9C-101B-9397-08002B2CF9AE}" pid="43" name="LastModifiedDateTime">
    <vt:lpwstr/>
  </property>
  <property fmtid="{D5CDD505-2E9C-101B-9397-08002B2CF9AE}" pid="44" name="LegacyData">
    <vt:lpwstr/>
  </property>
  <property fmtid="{D5CDD505-2E9C-101B-9397-08002B2CF9AE}" pid="45" name="LocComments">
    <vt:lpwstr/>
  </property>
  <property fmtid="{D5CDD505-2E9C-101B-9397-08002B2CF9AE}" pid="46" name="LocLastLocAttemptVersionLookup">
    <vt:lpwstr>694216</vt:lpwstr>
  </property>
  <property fmtid="{D5CDD505-2E9C-101B-9397-08002B2CF9AE}" pid="47" name="LocLastLocAttemptVersionTypeLookup">
    <vt:lpwstr/>
  </property>
  <property fmtid="{D5CDD505-2E9C-101B-9397-08002B2CF9AE}" pid="48" name="LocManualTestRequired">
    <vt:lpwstr>0</vt:lpwstr>
  </property>
  <property fmtid="{D5CDD505-2E9C-101B-9397-08002B2CF9AE}" pid="49" name="LocMarketGroupTiers2">
    <vt:lpwstr/>
  </property>
  <property fmtid="{D5CDD505-2E9C-101B-9397-08002B2CF9AE}" pid="50" name="LocNewPublishedVersionLookup">
    <vt:lpwstr/>
  </property>
  <property fmtid="{D5CDD505-2E9C-101B-9397-08002B2CF9AE}" pid="51" name="LocOverallHandbackStatusLookup">
    <vt:lpwstr/>
  </property>
  <property fmtid="{D5CDD505-2E9C-101B-9397-08002B2CF9AE}" pid="52" name="LocOverallLocStatusLookup">
    <vt:lpwstr/>
  </property>
  <property fmtid="{D5CDD505-2E9C-101B-9397-08002B2CF9AE}" pid="53" name="LocOverallPreviewStatusLookup">
    <vt:lpwstr/>
  </property>
  <property fmtid="{D5CDD505-2E9C-101B-9397-08002B2CF9AE}" pid="54" name="LocOverallPublishStatusLookup">
    <vt:lpwstr/>
  </property>
  <property fmtid="{D5CDD505-2E9C-101B-9397-08002B2CF9AE}" pid="55" name="LocProcessedForHandoffsLookup">
    <vt:lpwstr/>
  </property>
  <property fmtid="{D5CDD505-2E9C-101B-9397-08002B2CF9AE}" pid="56" name="LocProcessedForMarketsLookup">
    <vt:lpwstr/>
  </property>
  <property fmtid="{D5CDD505-2E9C-101B-9397-08002B2CF9AE}" pid="57" name="LocPublishedDependentAssetsLookup">
    <vt:lpwstr/>
  </property>
  <property fmtid="{D5CDD505-2E9C-101B-9397-08002B2CF9AE}" pid="58" name="LocPublishedLinkedAssetsLookup">
    <vt:lpwstr/>
  </property>
  <property fmtid="{D5CDD505-2E9C-101B-9397-08002B2CF9AE}" pid="59" name="LocRecommendedHandoff">
    <vt:lpwstr/>
  </property>
  <property fmtid="{D5CDD505-2E9C-101B-9397-08002B2CF9AE}" pid="60" name="LocalizationTags">
    <vt:lpwstr/>
  </property>
  <property fmtid="{D5CDD505-2E9C-101B-9397-08002B2CF9AE}" pid="61" name="LocalizationTagsTaxHTField0">
    <vt:lpwstr/>
  </property>
  <property fmtid="{D5CDD505-2E9C-101B-9397-08002B2CF9AE}" pid="62" name="MachineTranslated">
    <vt:lpwstr>0</vt:lpwstr>
  </property>
  <property fmtid="{D5CDD505-2E9C-101B-9397-08002B2CF9AE}" pid="63" name="MarketSpecific">
    <vt:lpwstr>0</vt:lpwstr>
  </property>
  <property fmtid="{D5CDD505-2E9C-101B-9397-08002B2CF9AE}" pid="64" name="Markets">
    <vt:lpwstr/>
  </property>
  <property fmtid="{D5CDD505-2E9C-101B-9397-08002B2CF9AE}" pid="65" name="Milestone">
    <vt:lpwstr/>
  </property>
  <property fmtid="{D5CDD505-2E9C-101B-9397-08002B2CF9AE}" pid="66" name="NumericId">
    <vt:lpwstr/>
  </property>
  <property fmtid="{D5CDD505-2E9C-101B-9397-08002B2CF9AE}" pid="67" name="OOCacheId">
    <vt:lpwstr/>
  </property>
  <property fmtid="{D5CDD505-2E9C-101B-9397-08002B2CF9AE}" pid="68" name="OpenTemplate">
    <vt:lpwstr>1</vt:lpwstr>
  </property>
  <property fmtid="{D5CDD505-2E9C-101B-9397-08002B2CF9AE}" pid="69" name="OriginAsset">
    <vt:lpwstr/>
  </property>
  <property fmtid="{D5CDD505-2E9C-101B-9397-08002B2CF9AE}" pid="70" name="OriginalRelease">
    <vt:lpwstr>15</vt:lpwstr>
  </property>
  <property fmtid="{D5CDD505-2E9C-101B-9397-08002B2CF9AE}" pid="71" name="OriginalSourceMarket">
    <vt:lpwstr/>
  </property>
  <property fmtid="{D5CDD505-2E9C-101B-9397-08002B2CF9AE}" pid="72" name="OutputCachingOn">
    <vt:lpwstr>0</vt:lpwstr>
  </property>
  <property fmtid="{D5CDD505-2E9C-101B-9397-08002B2CF9AE}" pid="73" name="ParentAssetId">
    <vt:lpwstr/>
  </property>
  <property fmtid="{D5CDD505-2E9C-101B-9397-08002B2CF9AE}" pid="74" name="PlannedPubDate">
    <vt:lpwstr/>
  </property>
  <property fmtid="{D5CDD505-2E9C-101B-9397-08002B2CF9AE}" pid="75" name="PolicheckWords">
    <vt:lpwstr/>
  </property>
  <property fmtid="{D5CDD505-2E9C-101B-9397-08002B2CF9AE}" pid="76" name="PrimaryImageGen">
    <vt:lpwstr>0</vt:lpwstr>
  </property>
  <property fmtid="{D5CDD505-2E9C-101B-9397-08002B2CF9AE}" pid="77" name="Provider">
    <vt:lpwstr/>
  </property>
  <property fmtid="{D5CDD505-2E9C-101B-9397-08002B2CF9AE}" pid="78" name="Providers">
    <vt:lpwstr/>
  </property>
  <property fmtid="{D5CDD505-2E9C-101B-9397-08002B2CF9AE}" pid="79" name="PublishStatusLookup">
    <vt:lpwstr>1345039;#</vt:lpwstr>
  </property>
  <property fmtid="{D5CDD505-2E9C-101B-9397-08002B2CF9AE}" pid="80" name="PublishTargets">
    <vt:lpwstr>OfficeOnlineVNext</vt:lpwstr>
  </property>
  <property fmtid="{D5CDD505-2E9C-101B-9397-08002B2CF9AE}" pid="81" name="RecommendationsModifier">
    <vt:lpwstr/>
  </property>
  <property fmtid="{D5CDD505-2E9C-101B-9397-08002B2CF9AE}" pid="82" name="ScenarioTags">
    <vt:lpwstr/>
  </property>
  <property fmtid="{D5CDD505-2E9C-101B-9397-08002B2CF9AE}" pid="83" name="ScenarioTagsTaxHTField0">
    <vt:lpwstr/>
  </property>
  <property fmtid="{D5CDD505-2E9C-101B-9397-08002B2CF9AE}" pid="84" name="ShowIn">
    <vt:lpwstr>Show everywhere</vt:lpwstr>
  </property>
  <property fmtid="{D5CDD505-2E9C-101B-9397-08002B2CF9AE}" pid="85" name="SourceTitle">
    <vt:lpwstr/>
  </property>
  <property fmtid="{D5CDD505-2E9C-101B-9397-08002B2CF9AE}" pid="86" name="SubmitterId">
    <vt:lpwstr/>
  </property>
  <property fmtid="{D5CDD505-2E9C-101B-9397-08002B2CF9AE}" pid="87" name="TPAppVersion">
    <vt:lpwstr/>
  </property>
  <property fmtid="{D5CDD505-2E9C-101B-9397-08002B2CF9AE}" pid="88" name="TPApplication">
    <vt:lpwstr/>
  </property>
  <property fmtid="{D5CDD505-2E9C-101B-9397-08002B2CF9AE}" pid="89" name="TPClientViewer">
    <vt:lpwstr/>
  </property>
  <property fmtid="{D5CDD505-2E9C-101B-9397-08002B2CF9AE}" pid="90" name="TPCommandLine">
    <vt:lpwstr/>
  </property>
  <property fmtid="{D5CDD505-2E9C-101B-9397-08002B2CF9AE}" pid="91" name="TPComponent">
    <vt:lpwstr/>
  </property>
  <property fmtid="{D5CDD505-2E9C-101B-9397-08002B2CF9AE}" pid="92" name="TPExecutable">
    <vt:lpwstr/>
  </property>
  <property fmtid="{D5CDD505-2E9C-101B-9397-08002B2CF9AE}" pid="93" name="TPFriendlyName">
    <vt:lpwstr/>
  </property>
  <property fmtid="{D5CDD505-2E9C-101B-9397-08002B2CF9AE}" pid="94" name="TPInstallLocation">
    <vt:lpwstr/>
  </property>
  <property fmtid="{D5CDD505-2E9C-101B-9397-08002B2CF9AE}" pid="95" name="TPLaunchHelpLink">
    <vt:lpwstr/>
  </property>
  <property fmtid="{D5CDD505-2E9C-101B-9397-08002B2CF9AE}" pid="96" name="TPLaunchHelpLinkType">
    <vt:lpwstr>Template</vt:lpwstr>
  </property>
  <property fmtid="{D5CDD505-2E9C-101B-9397-08002B2CF9AE}" pid="97" name="TPNamespace">
    <vt:lpwstr/>
  </property>
  <property fmtid="{D5CDD505-2E9C-101B-9397-08002B2CF9AE}" pid="98" name="TaxCatchAll">
    <vt:lpwstr/>
  </property>
  <property fmtid="{D5CDD505-2E9C-101B-9397-08002B2CF9AE}" pid="99" name="TemplateStatus">
    <vt:lpwstr>Complete</vt:lpwstr>
  </property>
  <property fmtid="{D5CDD505-2E9C-101B-9397-08002B2CF9AE}" pid="100" name="TemplateTemplateType">
    <vt:lpwstr>PowerPoint Presentation Template</vt:lpwstr>
  </property>
  <property fmtid="{D5CDD505-2E9C-101B-9397-08002B2CF9AE}" pid="101" name="ThumbnailAssetId">
    <vt:lpwstr/>
  </property>
  <property fmtid="{D5CDD505-2E9C-101B-9397-08002B2CF9AE}" pid="102" name="TimesCloned">
    <vt:lpwstr/>
  </property>
  <property fmtid="{D5CDD505-2E9C-101B-9397-08002B2CF9AE}" pid="103" name="TrustLevel">
    <vt:lpwstr>1 Microsoft Managed Content</vt:lpwstr>
  </property>
  <property fmtid="{D5CDD505-2E9C-101B-9397-08002B2CF9AE}" pid="104" name="UACurrentWords">
    <vt:lpwstr/>
  </property>
  <property fmtid="{D5CDD505-2E9C-101B-9397-08002B2CF9AE}" pid="105" name="UALocComments">
    <vt:lpwstr/>
  </property>
  <property fmtid="{D5CDD505-2E9C-101B-9397-08002B2CF9AE}" pid="106" name="UALocRecommendation">
    <vt:lpwstr>Localize</vt:lpwstr>
  </property>
  <property fmtid="{D5CDD505-2E9C-101B-9397-08002B2CF9AE}" pid="107" name="UANotes">
    <vt:lpwstr/>
  </property>
  <property fmtid="{D5CDD505-2E9C-101B-9397-08002B2CF9AE}" pid="108" name="UAProjectedTotalWords">
    <vt:lpwstr/>
  </property>
  <property fmtid="{D5CDD505-2E9C-101B-9397-08002B2CF9AE}" pid="109" name="VoteCount">
    <vt:lpwstr/>
  </property>
</Properties>
</file>